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262-0F2A-4AD5-8E69-7007AEFF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7E2-A82F-4638-BF2E-60C8F53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DDC-E220-4412-BAE0-807F3A6F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B20-1616-4396-8FF5-20F82469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329-E864-4093-AC04-A0E3C5C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D94-BE83-4F6D-AAE2-2A771AD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DB3-63AD-4B07-9A07-697A5B7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3B7-A6F4-47F6-87A4-F3A04CB5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ED4-F11E-48CD-9BEF-70A1DA38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C4A-9BC0-494B-9A58-DF3397E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A87-DEF2-48EA-9FAE-538EA8BE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F1E-7520-4DD5-B65C-1D5C287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B0B-2067-4434-898D-AAA42FBC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uts on the 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ference to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is sandy hair, considerably longer than it had been when they dropped in, was lighter now; and his bare back was a mass of dark freckles and peeling sunb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to Jack?  How is he Chang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himself shrank at this cry with a hiss of indrawn breath, and for a minute became less a hunter than a furtive thing, ape-like among the tangle of t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ing a leader:  Awesome or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this page &amp; find Ralph’s views on being a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tried to convey the compulsion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rack down and ki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was swallowing hi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iends, Enemies, or Frenam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Jack)  “They’re bat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Ralph)  “Crackers.  Remember when we went explor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y grinned at each other remembering the glamour of the firs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hadowing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3   (Jack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’re hunting sometimes you catch yourself feeling as if---” He flushed suddenly.  “There’s nothing in it of course.  Just a feeling.  But you can feel as if you’re not hunting, but—being hunted, as if something’s behind you all the time in the ju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m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6-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a flashcard:  Write down 3 things you learn about Simon from these p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52:22Z</dcterms:created>
  <dc:creator>BPS</dc:creator>
  <dc:description/>
  <dc:language>en-US</dc:language>
  <cp:lastModifiedBy>BPS</cp:lastModifiedBy>
  <dcterms:modified xsi:type="dcterms:W3CDTF">2009-12-09T16:01:33Z</dcterms:modified>
  <cp:revision>9</cp:revision>
  <dc:subject/>
  <dc:title>Chapter 3</dc:title>
</cp:coreProperties>
</file>